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4854-B8BF-4D3B-A714-5E567927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B2FE-B17F-4E6E-8702-09C962D0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94962-1EBD-44D3-A33C-D3170524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15830-2E22-46B5-BD93-97978C10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976EC-D0C1-4670-BB56-153E710B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CCF03-0B70-41B5-8D44-43248B56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F33BA-9A3F-4A0C-9D60-32D64572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B0E3B-0236-4A25-B720-5DB6C967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CB301-BC81-4450-99D6-37CCA9D3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2C8FA-FCFF-443B-8A42-981AB0B3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B1DA9-C90C-4FDF-94BB-B6CB0F2A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A7CE5-3F87-44A4-949C-06F14AD3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8FF-F8BD-4CBD-B299-8D3E7E37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F0D65-8E23-4FC0-ABC4-16E65F17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712B3-C402-4F09-B4F5-A5986559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31F25-B0C0-4AED-8919-E4E8AAAB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08BF1-A8CD-4407-88AD-0CFA4818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438CF-3A32-4D35-8522-38DF3E09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ECA86-E0E2-40BC-B6FF-097D01EA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AD59E-6ECF-45C0-AFF0-4676497E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08696-AE38-453A-B6F3-0E922B16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2E28B-761D-455F-9317-4FD26A40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A8B15-6497-46DD-984E-EB7C7E1D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9D3A-6D9D-496C-8F58-B78B773E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71C87-76C1-4076-8CF3-7046C73A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FDEB6-8F36-42A9-9D75-27B4F0C7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34C01-F1DD-4AA4-B99B-690D314D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CE9A2-0589-434F-9798-F75F5B30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D2184-3E26-440E-A4F8-5B2B15C2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550D3-ECD3-4D48-92D0-DCD50652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F703F-D2B5-4561-9CFD-5D743E84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25086-B6A3-4FD3-A3C5-60F3CA3C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2B1F5-79FC-4311-830C-6F866B5B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26FDB-A2F3-4453-9E4F-A5D23257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ED81-86FF-4EFD-913D-3E0C9319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69596-89EE-410D-BEE8-3A3ED126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AE882-B6D0-42EE-9DE1-6CE2CAC9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3743B-AB0F-4B3C-986B-26BF5F71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1B070-B56D-412E-9508-9A72FAF6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A1984-5053-4F77-9BDA-94AB590F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72E9F-5C0A-4010-BC56-A8646E0F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E7962-2CE0-4FA5-AF89-9399BF2A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FBAA6-3E30-4BDD-BB74-15783222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F912A-E7CB-4698-AAE5-9FC5C1C5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E9988-4E20-4D87-A083-53B69F6D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B0A1-D914-4ACB-B8AF-8B4A46D5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3C4DA-F80F-4990-83D9-C00A8978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1E4AA-E9FF-4745-B5F1-40AE04CE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847E3-A34F-4DD8-A5B8-F60D6225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B4ECF-49CA-4A66-A49B-204886A4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6E698-8F84-4606-A825-9EEEAADA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4DE3A-7891-43C4-A1B7-8C05FA26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F608C-8900-4122-988B-20E9700F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669DF-44B7-4C7A-9279-6A2603F4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93365-BB66-43A1-A145-38EF8DBF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5D7B9-5D5F-428B-9F8C-32A92186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77CE-7240-4497-BFB3-DA31CE55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C9777-F635-4D48-BCD6-5AD2E9EF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92839-0AB1-4397-BD46-3DA88FD7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078682-12CC-4B08-8429-01CF2590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E9E788-3B09-4431-80B7-BC9397E7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07E77-E1D2-4062-B89D-7B02ADA7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6028B3-1972-48D8-ACC4-93B74E6C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55380-873B-4F7A-B87B-8D533CE3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911E-17FF-4160-9ECD-63066AB8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2904-CE74-49B2-B6C2-0E7BCE98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313E-423B-4091-924A-F0DE2403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447B-7047-4720-AEB7-7BF2E4C1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0D63-FC82-4AED-8E0A-37AE62E1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81A5-58A6-4C9A-8C68-59EAA6C4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9ABB-9078-42B8-90F2-B56A0AA3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3917-2DB1-47E9-A9BE-63C14DEC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AF96-CF8F-41F3-B4C3-12FEBAFD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F5E5-B3B1-4870-9883-380AF863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28565-CF19-49E2-9320-B29588A8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2895F-238B-4659-B736-994D6DFD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C5569-8DD0-424D-B66D-7A5E4621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651B6-4429-4129-8788-CE899E7D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4F0E4-DB2C-463D-AC9E-D9E540DB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E1B9-A105-4836-84B6-B4AEEAFE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4C693-2B7B-419F-AE6C-46ACF60E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4D8FE-DF9E-49D9-881C-428BAA14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1B67A-3730-4448-AA14-AD5894BA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FDB0B-A3F7-452F-A1EB-172A153A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71E23-86FB-4C05-B2B2-26F1B3A4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3E77A-F8D2-476A-A462-462AB3DC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71D2A-9017-45CD-A35E-6578F8D9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5FA8E-EF99-4D45-963A-A4E8542D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9EB0B-B463-47BC-842A-8FDC02C8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23097-8020-4E53-BC07-C768AFA4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FD8-80C8-423F-B7AE-F991BBE0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9CFA2-9910-463B-BD43-D1368DA0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8311F-27E0-4B1B-A401-C2806EE4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2A947-51BD-4FCC-9957-EF82D20D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ED776-BB51-4D1C-B00B-BE79EF4C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9D5DA-BA56-4EA4-8C3F-F3547B4F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0125B-6FD2-4431-9114-31C33591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C6FD7-86D8-4C1C-B23C-6B1B9BC0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7EF20-A722-4909-BB7A-FCBC70FE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3894A-2027-4D9A-B891-D836D3A8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5A875-1592-46D6-9588-98ADA89E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7C1-BF4D-4566-94AE-9F900E26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F6CC0-6BAE-45D5-9690-B6E7C3DF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12AA2-08C8-4D7F-BC8C-B235A265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8ED3B-7614-4B41-848E-C2F3E09C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F33EB-0C2B-400E-8DDF-9C4DABE0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1A418-BF63-482D-BE93-B1157EA0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48850-0A96-4222-9F2C-57228C9F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6DE55-08DD-4D66-8C6E-CD2CC950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2B211-099C-47CB-A1ED-F03BDB4A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ACCF6-CBA8-4C3C-AD5E-CC992D7F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A6878-FFBC-4E3F-BA42-34FCAC2F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B40-A9C3-4C25-A5DC-C6D9A8E3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70BE9-6CB0-4D35-A76E-3A4B351B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50012-6421-4D28-8C2A-390A41F4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29E0A-0816-49D3-BF34-15C51D55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0B39A-7945-4107-AFCA-A745189A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115EC-6635-46D1-8876-F91056FA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B579A-21FE-4C51-A35C-ABDE8657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7A4FD-30BC-4B63-A814-F1A683F7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6FCB7-A96F-40BA-9DAC-E1333B3D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8DD1F-0814-4887-8A2F-B5B50884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64634-87BD-456E-ADD6-4C403797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BE5F-48C0-4424-9026-535562BF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42D20-44FD-473E-95CF-464EE9B5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0ECCC-9824-4E4B-B59F-A5315C07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E8457-F883-4FC3-8F0A-DB9307EF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092D7-E4EA-409E-86CC-7F4F8B6A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B6422-1DCC-47B6-B54F-A79E3F5F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9F219-BDC6-4FE6-9EA6-36497E68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2C31B-669D-4F29-BD4E-E9112F37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FAFEB-6A6B-409A-8273-09598259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BB081-7148-40B2-91F4-44C35442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C880F-4828-4DE1-8758-BB2E3DCF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FE58-579A-4FC5-B2ED-95B87B0C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7FF5C-91E0-485E-93B4-B6E1DB65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05E60-7B88-43E1-9098-058C3A6D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96E91-F413-4DBB-975A-18419314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F58AC-B665-4BCB-AB67-64F4EA8A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1AD15-2861-4B63-A429-2ABF6D07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8DDBF-EF49-4D03-8CCA-37287084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11A52-2CD8-45EE-962B-59E93096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F8891-D6C0-4A94-A678-B2149BE8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9ABB8-C85C-417A-8175-417AECD9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5DBCF-F4C5-49AB-A606-899AF3F2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6C40-CC1A-43B4-91EB-34CD4FE9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D2041-870F-4719-8A31-80AD94C4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D5953-9CEB-4585-B3E2-E798AD7E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1525B-B056-49B8-96AD-FAFEBE34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46B96-90F1-4DCE-8378-1A3DB54A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439EB-D2FD-4489-A85F-BD26E342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44D57-EFC0-475C-B6E2-89FFF10C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ED382-EE91-468B-BA4B-252909E4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EA130-6ACD-4922-B568-195DBE41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2D9DD-FC74-4AB7-BDE4-FE7CFA1D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93DAC-6482-4714-BDA0-B2CCD1F3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D410-981B-4714-9B30-16591B399BB8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9BEE-834B-49D0-AAF4-D06F65BC4D5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E3E8-A96B-414E-8CEF-C854461D47D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2A4A-744A-4568-BBF0-74505F076F70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94AC-C1DD-4E64-B13C-5967B08B94AC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699A-FF15-412D-8DC5-C21DD5BF24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A92C-3015-4A50-B4F9-EA8BBF51DAE8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F7AC-FE75-4B73-B07E-78E4DB570301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EF33-F12A-4DEA-9F4D-A3DF9DE6177B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692C-140E-4171-80F1-143BED6B0B21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2E76-9889-4DC4-A519-AD859749325E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0C5C-D013-49A4-B4A2-A3AFD887120A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9E8F-EDE3-4936-873A-22460708A9A5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未标题-1"/>
          <p:cNvPicPr/>
          <p:nvPr/>
        </p:nvPicPr>
        <p:blipFill>
          <a:blip r:embed="rId1"/>
          <a:stretch/>
        </p:blipFill>
        <p:spPr>
          <a:xfrm>
            <a:off x="-168120" y="-88920"/>
            <a:ext cx="9491400" cy="7093080"/>
          </a:xfrm>
          <a:prstGeom prst="rect">
            <a:avLst/>
          </a:prstGeom>
          <a:ln w="0">
            <a:noFill/>
          </a:ln>
        </p:spPr>
      </p:pic>
      <p:sp>
        <p:nvSpPr>
          <p:cNvPr id="534" name="文本框 1"/>
          <p:cNvSpPr/>
          <p:nvPr/>
        </p:nvSpPr>
        <p:spPr>
          <a:xfrm>
            <a:off x="3629880" y="1940040"/>
            <a:ext cx="139932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刺绣</a:t>
            </a: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艺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2"/>
          <p:cNvSpPr/>
          <p:nvPr/>
        </p:nvSpPr>
        <p:spPr>
          <a:xfrm>
            <a:off x="2340000" y="5229360"/>
            <a:ext cx="40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mulu"/>
          <p:cNvPicPr/>
          <p:nvPr/>
        </p:nvPicPr>
        <p:blipFill>
          <a:blip r:embed="rId1"/>
          <a:stretch/>
        </p:blipFill>
        <p:spPr>
          <a:xfrm>
            <a:off x="-169920" y="-87480"/>
            <a:ext cx="9423360" cy="704556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1"/>
          <p:cNvSpPr/>
          <p:nvPr/>
        </p:nvSpPr>
        <p:spPr>
          <a:xfrm>
            <a:off x="239040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刺绣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2"/>
          <p:cNvSpPr/>
          <p:nvPr/>
        </p:nvSpPr>
        <p:spPr>
          <a:xfrm>
            <a:off x="329508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刺绣渊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3"/>
          <p:cNvSpPr/>
          <p:nvPr/>
        </p:nvSpPr>
        <p:spPr>
          <a:xfrm>
            <a:off x="422712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艺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4"/>
          <p:cNvSpPr/>
          <p:nvPr/>
        </p:nvSpPr>
        <p:spPr>
          <a:xfrm>
            <a:off x="515232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历代刺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5"/>
          <p:cNvSpPr/>
          <p:nvPr/>
        </p:nvSpPr>
        <p:spPr>
          <a:xfrm>
            <a:off x="605412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四大名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背景-01"/>
          <p:cNvPicPr/>
          <p:nvPr/>
        </p:nvPicPr>
        <p:blipFill>
          <a:blip r:embed="rId1"/>
          <a:stretch/>
        </p:blipFill>
        <p:spPr>
          <a:xfrm>
            <a:off x="0" y="-19080"/>
            <a:ext cx="9325080" cy="69595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过度 花圈-01"/>
          <p:cNvPicPr/>
          <p:nvPr/>
        </p:nvPicPr>
        <p:blipFill>
          <a:blip r:embed="rId2"/>
          <a:stretch/>
        </p:blipFill>
        <p:spPr>
          <a:xfrm>
            <a:off x="1495440" y="-17640"/>
            <a:ext cx="5813280" cy="30942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过度鸟2-01-01-01"/>
          <p:cNvPicPr/>
          <p:nvPr/>
        </p:nvPicPr>
        <p:blipFill>
          <a:blip r:embed="rId3"/>
          <a:stretch/>
        </p:blipFill>
        <p:spPr>
          <a:xfrm>
            <a:off x="1496880" y="-19080"/>
            <a:ext cx="5811840" cy="3092400"/>
          </a:xfrm>
          <a:prstGeom prst="rect">
            <a:avLst/>
          </a:prstGeom>
          <a:ln w="0">
            <a:noFill/>
          </a:ln>
        </p:spPr>
      </p:pic>
      <p:grpSp>
        <p:nvGrpSpPr>
          <p:cNvPr id="545" name="组合 3"/>
          <p:cNvGrpSpPr/>
          <p:nvPr/>
        </p:nvGrpSpPr>
        <p:grpSpPr>
          <a:xfrm>
            <a:off x="4308480" y="2946240"/>
            <a:ext cx="641520" cy="3095640"/>
            <a:chOff x="4308480" y="2946240"/>
            <a:chExt cx="641520" cy="3095640"/>
          </a:xfrm>
        </p:grpSpPr>
        <p:sp>
          <p:nvSpPr>
            <p:cNvPr id="546" name="文本框 1"/>
            <p:cNvSpPr/>
            <p:nvPr/>
          </p:nvSpPr>
          <p:spPr>
            <a:xfrm>
              <a:off x="4342680" y="3165120"/>
              <a:ext cx="606960" cy="24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刺绣简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2"/>
            <p:cNvSpPr/>
            <p:nvPr/>
          </p:nvSpPr>
          <p:spPr>
            <a:xfrm>
              <a:off x="4308480" y="2946240"/>
              <a:ext cx="641520" cy="3095640"/>
            </a:xfrm>
            <a:prstGeom prst="rect">
              <a:avLst/>
            </a:prstGeom>
            <a:noFill/>
            <a:ln w="34920">
              <a:solidFill>
                <a:srgbClr val="f5a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背景-01"/>
          <p:cNvPicPr/>
          <p:nvPr/>
        </p:nvPicPr>
        <p:blipFill>
          <a:blip r:embed="rId1"/>
          <a:stretch/>
        </p:blipFill>
        <p:spPr>
          <a:xfrm>
            <a:off x="0" y="-19080"/>
            <a:ext cx="9253440" cy="6959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xian"/>
          <p:cNvPicPr/>
          <p:nvPr/>
        </p:nvPicPr>
        <p:blipFill>
          <a:blip r:embed="rId2"/>
          <a:stretch/>
        </p:blipFill>
        <p:spPr>
          <a:xfrm>
            <a:off x="1495440" y="814320"/>
            <a:ext cx="6767640" cy="3110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xian2"/>
          <p:cNvPicPr/>
          <p:nvPr/>
        </p:nvPicPr>
        <p:blipFill>
          <a:blip r:embed="rId3"/>
          <a:stretch/>
        </p:blipFill>
        <p:spPr>
          <a:xfrm>
            <a:off x="1495440" y="5589720"/>
            <a:ext cx="6769080" cy="3124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鸟1-01"/>
          <p:cNvPicPr/>
          <p:nvPr/>
        </p:nvPicPr>
        <p:blipFill>
          <a:blip r:embed="rId4"/>
          <a:stretch/>
        </p:blipFill>
        <p:spPr>
          <a:xfrm>
            <a:off x="6753240" y="4005360"/>
            <a:ext cx="1922400" cy="28083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7" descr="文字-01"/>
          <p:cNvPicPr/>
          <p:nvPr/>
        </p:nvPicPr>
        <p:blipFill>
          <a:blip r:embed="rId5"/>
          <a:stretch/>
        </p:blipFill>
        <p:spPr>
          <a:xfrm>
            <a:off x="1487520" y="1424160"/>
            <a:ext cx="7137360" cy="3949560"/>
          </a:xfrm>
          <a:prstGeom prst="rect">
            <a:avLst/>
          </a:prstGeom>
          <a:ln w="0">
            <a:noFill/>
          </a:ln>
        </p:spPr>
      </p:pic>
      <p:grpSp>
        <p:nvGrpSpPr>
          <p:cNvPr id="553" name="组合 3"/>
          <p:cNvGrpSpPr/>
          <p:nvPr/>
        </p:nvGrpSpPr>
        <p:grpSpPr>
          <a:xfrm>
            <a:off x="423720" y="1779480"/>
            <a:ext cx="640080" cy="3095640"/>
            <a:chOff x="423720" y="1779480"/>
            <a:chExt cx="640080" cy="3095640"/>
          </a:xfrm>
        </p:grpSpPr>
        <p:sp>
          <p:nvSpPr>
            <p:cNvPr id="554" name="文本框 1"/>
            <p:cNvSpPr/>
            <p:nvPr/>
          </p:nvSpPr>
          <p:spPr>
            <a:xfrm>
              <a:off x="456840" y="1998360"/>
              <a:ext cx="606960" cy="24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刺绣简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矩形 2"/>
            <p:cNvSpPr/>
            <p:nvPr/>
          </p:nvSpPr>
          <p:spPr>
            <a:xfrm>
              <a:off x="423720" y="1779480"/>
              <a:ext cx="640080" cy="3095640"/>
            </a:xfrm>
            <a:prstGeom prst="rect">
              <a:avLst/>
            </a:prstGeom>
            <a:noFill/>
            <a:ln w="34920">
              <a:solidFill>
                <a:srgbClr val="f5a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未标题-1"/>
          <p:cNvPicPr/>
          <p:nvPr/>
        </p:nvPicPr>
        <p:blipFill>
          <a:blip r:embed="rId1"/>
          <a:stretch/>
        </p:blipFill>
        <p:spPr>
          <a:xfrm>
            <a:off x="-168120" y="-88920"/>
            <a:ext cx="9491400" cy="7093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谢谢-01-01"/>
          <p:cNvPicPr/>
          <p:nvPr/>
        </p:nvPicPr>
        <p:blipFill>
          <a:blip r:embed="rId2"/>
          <a:stretch/>
        </p:blipFill>
        <p:spPr>
          <a:xfrm>
            <a:off x="3851280" y="1611360"/>
            <a:ext cx="142704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559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2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567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571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04-05T07:55:27Z</dcterms:modified>
  <cp:revision>13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